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A46D-07A6-4810-BC64-2275C4CE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8EE3-D649-4D23-BE8E-59B9D633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EB66-939B-4671-8A6F-02F82AA8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F3C3-3734-43B1-8985-133CF0F1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B115-39CF-48CD-A2C0-31BA591E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13C-98D2-4AFB-ACC4-4170F7C4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DC2-A8DF-4026-8802-D1CA1BF5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09C9-8D21-48F8-B5DC-DEF66B01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7F5-899C-41BD-8156-A920B27D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4DEB-79EA-497C-97CC-281F5234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5506-6CD3-4880-8CF7-5232C190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DC3A-B888-4124-BB7A-9283DF76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38E5-5027-4FFA-9E7F-73B19A59C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wmf"/><Relationship Id="rId7" Type="http://schemas.openxmlformats.org/officeDocument/2006/relationships/image" Target="../media/image11.jpeg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mative V. Summative Assess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Driving Exper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71863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ing To Dr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41036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1752480"/>
            <a:ext cx="509580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81080" y="1600200"/>
            <a:ext cx="54295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52720" y="1905120"/>
            <a:ext cx="3238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2273040" cy="2614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58000" y="2362320"/>
            <a:ext cx="1371600" cy="1298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crosswalks,pedestrians,road signs,signs,traffic signs,transportation"/>
          <p:cNvPicPr/>
          <p:nvPr/>
        </p:nvPicPr>
        <p:blipFill>
          <a:blip r:embed="rId4"/>
          <a:stretch/>
        </p:blipFill>
        <p:spPr>
          <a:xfrm>
            <a:off x="762120" y="42386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657600" y="2362320"/>
            <a:ext cx="2514600" cy="2200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705720" y="457200"/>
            <a:ext cx="1176120" cy="1177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EU,Europe,European,European Union,parking,road signs,signs,traffic signs,transportation"/>
          <p:cNvPicPr/>
          <p:nvPr/>
        </p:nvPicPr>
        <p:blipFill>
          <a:blip r:embed="rId7"/>
          <a:stretch/>
        </p:blipFill>
        <p:spPr>
          <a:xfrm>
            <a:off x="525780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276720" y="5257800"/>
            <a:ext cx="136656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4343400" y="304920"/>
            <a:ext cx="138600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124080" y="990720"/>
            <a:ext cx="31734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3702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7:20:33Z</dcterms:created>
  <dc:creator>ccps</dc:creator>
  <dc:description/>
  <dc:language>en-US</dc:language>
  <cp:lastModifiedBy>ccps</cp:lastModifiedBy>
  <dcterms:modified xsi:type="dcterms:W3CDTF">2010-10-19T17:49:16Z</dcterms:modified>
  <cp:revision>1</cp:revision>
  <dc:subject/>
  <dc:title>Formative V. Summative Assessment A Driving Experience</dc:title>
</cp:coreProperties>
</file>